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E061-ABC5-4F55-AFBD-F28210BF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5F35-489B-4570-9E8B-C9FF84E7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8BF5-D10E-458A-8F1E-D390D163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2FA0-D676-4E76-9089-DD25EC27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B58B-1539-49D4-876F-A88CFB79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23CC-1386-4382-B662-72D9B62D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2449-8B82-446C-AFE0-8D60DDC0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E119-19AC-4D13-993B-F590548E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F942-8C12-4571-9EAD-E543AC66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3F4-312F-46C2-8DC7-67CE7EC0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33DA-A0B5-4A71-AAE2-F4C02155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13F6-3418-49DA-B681-1226542C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EA52-07D8-42CA-BA51-B218D2A1B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talentedapps.files.wordpress.com/2009/03/homer-simpson-wallpaper-brain-10242.jpg&amp;imgrefurl=http://talentedapps.wordpress.com/2009/03/&amp;usg=__FEU1J7mVb9Rx6xvAaaZpADKfI6M=&amp;h=768&amp;w=1024&amp;sz=50&amp;hl=en&amp;start=7&amp;itbs=1&amp;tbnid=PkiyfXuSo4dVIM:&amp;tbnh=113&amp;tbnw=150&amp;prev=/images%3Fq%3Dbrain%26hl%3Den%26safe%3Dactive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3429000"/>
            <a:ext cx="42670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ajor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brain (Mesencephal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ulla Oblong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0" y="2971800"/>
            <a:ext cx="42894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b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es visual and auditory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untary motor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7400" y="2838600"/>
            <a:ext cx="536256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s the cerebellum to the brain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nuclei involved in somatic and visceral motor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181480" y="312408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ulla Oblong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estiv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407664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rebel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 Processing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s the postural muscles of the body to maintain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ing fine-tuning movements controlled at consciou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onscious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477120" y="4616280"/>
            <a:ext cx="266688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rebrum Revis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i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i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Sul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s the frontal from the parietal lo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352680" y="1295280"/>
            <a:ext cx="480060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in Lobes and Associa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. 262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ipital co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(right hemisphere controls left fi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ca’s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hemisphere, frontal lo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uma and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lexia: a disorder affecting the comprehension and use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nesia: loss of memory from disease or tra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If I had a stroke and could not move my right arm and had slurred speech, what region of the brain received the damag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the Brain and the Spinal 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3145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sensation of the internal and ex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voluntary and involuntary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/ controlling peripheral structures an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ng sensory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tomy of the B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Major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eb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ncepha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ulla oblong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ebel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al Cort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y matter on the surface of th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on the surface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eb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ebel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41907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reb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d into right and left hemisph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ed by the longitudinal fi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cious thoughts, sensations, intellectual functions, memory storage and retri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movements (skele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82296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ncepha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s to the Cerebrum to the brain 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s the Thala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lamus: relays sensory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alamus: emotions, hormone production, hunger, thirst, and temp.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eal Gland: endocrin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645336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6:46:28Z</dcterms:created>
  <dc:creator>jeff bonomo</dc:creator>
  <dc:description/>
  <dc:language>en-US</dc:language>
  <cp:lastModifiedBy>jeff bonomo</cp:lastModifiedBy>
  <dcterms:modified xsi:type="dcterms:W3CDTF">2010-10-20T12:25:29Z</dcterms:modified>
  <cp:revision>5</cp:revision>
  <dc:subject/>
  <dc:title>The Brain</dc:title>
</cp:coreProperties>
</file>